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5B61-10F3-4470-9BBF-69D384DCF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1E71-AA14-408D-B785-3408C3543E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 (Body)"/>
              <a:ea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FA5D-C5CB-4A58-96DE-D6ABB4CCE6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4151-B3F9-4112-ADA0-F35F70DD3B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EB4E-4B5A-455B-958C-32A108D31E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90FB-7931-4BAA-81A7-2398E7DEED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123A-5D97-4E84-9A8D-2635CDBCEC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C4B9-A224-4EC4-8274-203853B31D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6B3E-3DF4-4C51-BAE2-BC91CDF4A8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1DBF-4D46-4064-9CDF-C781452DC1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0FA-1117-4F82-ADB6-12082005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ADE-1F15-4E8C-B276-DB200154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4C1-7F9F-4AB8-8E49-AFDA94E6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94E-E680-4268-A925-F8FA8943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312-7426-412B-A544-4FAD8E47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12C-094E-44E0-8BEC-995B5374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44C-913E-44F2-A39C-2326D6A8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041-01A8-4279-87DE-6F23C02F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BA8-7A6A-402E-B25B-2FD2FF56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769-5D03-4C70-BE1F-D2B312F5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380-4FAE-4EFE-83A9-75408BE8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A4B9-9E62-4FDE-975B-A880D1DB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EAAA-ABCA-4153-A094-DB7C40A8A1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79200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гриране на </a:t>
            </a:r>
            <a:br>
              <a:rPr sz="3200"/>
            </a:br>
            <a:r>
              <a:rPr b="1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тиката по околна среда и политиката по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е на клим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9"/>
          <p:cNvSpPr/>
          <p:nvPr/>
        </p:nvSpPr>
        <p:spPr>
          <a:xfrm>
            <a:off x="5742000" y="4365720"/>
            <a:ext cx="3384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 заседание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тет за наблю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ОПОС 2014-202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-11 септември 2015 г., гр. Бург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254160" y="115920"/>
            <a:ext cx="73332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2" descr="C:\Users\AGROZD~1\AppData\Local\Temp\Rar$DI01.257\logo-bg-center-no-back.png"/>
          <p:cNvPicPr/>
          <p:nvPr/>
        </p:nvPicPr>
        <p:blipFill>
          <a:blip r:embed="rId3"/>
          <a:stretch/>
        </p:blipFill>
        <p:spPr>
          <a:xfrm>
            <a:off x="104760" y="573120"/>
            <a:ext cx="1046160" cy="83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forwardmotioncareers.com/wp-content/uploads/2014/01/ShinyRedPuzzlePiece_xs.jpg"/>
          <p:cNvPicPr/>
          <p:nvPr/>
        </p:nvPicPr>
        <p:blipFill>
          <a:blip r:embed="rId4"/>
          <a:stretch/>
        </p:blipFill>
        <p:spPr>
          <a:xfrm>
            <a:off x="8459640" y="6237360"/>
            <a:ext cx="666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280" y="836640"/>
            <a:ext cx="7882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339933"/>
                </a:solidFill>
                <a:latin typeface="Times New Roman"/>
                <a:ea typeface="Calibri"/>
              </a:rPr>
              <a:t>ОСНОВАНИЕ ЗА ИНИЦИАТИВА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ЧЛ. 11 ОТ ДОГОВОРА 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ФУНКЦИОНИРАНЕТО НА ЕВРОПЕЙСКИЯ СЪЮЗ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ЧЛ. 8 ОТ РЕГЛАМЕНТ (ЕС) № 1303/201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ЗА ДЕЙСТВИЕ С МЕРКИ, ПРОИЗТИЧАЩИ ОТ ЧЛЕНСТВОТО НА Р. БЪЛГАРИЯ В ЕС, В РАМКИТЕ НА РГ 19 „РЕГИОНАЛНА ПОЛИТИКА И КООРДИНАЦИЯ НА СТРУКТУРНИТЕ ИНСТРУМЕНТ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 algn="just">
              <a:lnSpc>
                <a:spcPct val="100000"/>
              </a:lnSpc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339933"/>
                </a:solidFill>
                <a:latin typeface="Times New Roman"/>
                <a:ea typeface="Calibri"/>
              </a:rPr>
              <a:t>ОСНОВАНИЕ ЗА ВКЛЮЧВАНЕ В ДНЕВНИЯ РЕД НА ЗАСЕДАНИЕТ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ЧЛ. 11 ОТ ПМС № 79/2014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473040" cy="301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2" descr="C:\Users\AGROZD~1\AppData\Local\Temp\Rar$DI01.257\logo-bg-center-no-back.png"/>
          <p:cNvPicPr/>
          <p:nvPr/>
        </p:nvPicPr>
        <p:blipFill>
          <a:blip r:embed="rId2"/>
          <a:stretch/>
        </p:blipFill>
        <p:spPr>
          <a:xfrm>
            <a:off x="8421840" y="58680"/>
            <a:ext cx="674640" cy="552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6948360" y="4608360"/>
            <a:ext cx="1979640" cy="18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3" descr=""/>
          <p:cNvPicPr/>
          <p:nvPr/>
        </p:nvPicPr>
        <p:blipFill>
          <a:blip r:embed="rId1"/>
          <a:stretch/>
        </p:blipFill>
        <p:spPr>
          <a:xfrm>
            <a:off x="6732720" y="4056120"/>
            <a:ext cx="2358720" cy="2357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307800"/>
            <a:ext cx="76327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ЪРВА ФАЗА НА ПРОЦЕСА 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ГРИРАНЕ НА ПОС И П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0320" y="1557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bg-BG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оки за интеграция на политиката по околна среда и политикат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зменение на климата в КП, ОСП, ОПР за периода 2014-2020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bg-BG" sz="19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фаза „Програмиране на фондовете към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9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Общата стратегическа рамка</a:t>
            </a:r>
            <a:r>
              <a:rPr b="1" lang="bg-BG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"/>
          <p:cNvPicPr/>
          <p:nvPr/>
        </p:nvPicPr>
        <p:blipFill>
          <a:blip r:embed="rId2"/>
          <a:stretch/>
        </p:blipFill>
        <p:spPr>
          <a:xfrm>
            <a:off x="187200" y="144360"/>
            <a:ext cx="473040" cy="30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2" descr="C:\Users\AGROZD~1\AppData\Local\Temp\Rar$DI01.257\logo-bg-center-no-back.png"/>
          <p:cNvPicPr/>
          <p:nvPr/>
        </p:nvPicPr>
        <p:blipFill>
          <a:blip r:embed="rId3"/>
          <a:stretch/>
        </p:blipFill>
        <p:spPr>
          <a:xfrm>
            <a:off x="8416800" y="106200"/>
            <a:ext cx="674640" cy="552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619200" y="3141720"/>
            <a:ext cx="79851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иране на процеса: април 2012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трешноведомствено разработване и междуведомствено съгласуване: април – декември 2012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обрени от МС: март 2013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619200" y="4724280"/>
            <a:ext cx="5968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дяване на прилагането: чрез участие на представители на УО на ОПОС в ТРГ за разработване на програмите за периода 2014–2020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187200" y="2700360"/>
            <a:ext cx="2635200" cy="2023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37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А ФАЗА НА ПРОЦЕСА 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ГРИРАНЕ НА ПОС И ПИК (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87200" y="144360"/>
            <a:ext cx="473040" cy="301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2" descr="C:\Users\AGROZD~1\AppData\Local\Temp\Rar$DI01.257\logo-bg-center-no-back.png"/>
          <p:cNvPicPr/>
          <p:nvPr/>
        </p:nvPicPr>
        <p:blipFill>
          <a:blip r:embed="rId3"/>
          <a:stretch/>
        </p:blipFill>
        <p:spPr>
          <a:xfrm>
            <a:off x="8469360" y="27000"/>
            <a:ext cx="674640" cy="5526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3051000" y="2131920"/>
            <a:ext cx="5481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вно прилагане на европейското и национално законодателств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С и П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ане на единен, систематичен и координиран подход за интегриране на ПОС и П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омагане на УО в процеса на прилагане на практика на хоризонталния принцип за устойчив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ърчаване избора 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, допринасящи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-голяма степен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ението 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 и ПИК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ъответните сек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625320" y="5659560"/>
            <a:ext cx="84837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еснява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са на докладване по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. 52 от Регламент (ЕС) № 1303/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826920" y="1411200"/>
            <a:ext cx="7561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Значимост на процес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1" descr="http://images.atelier.net/sites/default/files/imagecache/scale_crop_587_310/articles/shutterstock_85499281.jpg"/>
          <p:cNvPicPr/>
          <p:nvPr/>
        </p:nvPicPr>
        <p:blipFill>
          <a:blip r:embed="rId1"/>
          <a:stretch/>
        </p:blipFill>
        <p:spPr>
          <a:xfrm>
            <a:off x="4618080" y="2276640"/>
            <a:ext cx="4491000" cy="237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"/>
          <p:cNvPicPr/>
          <p:nvPr/>
        </p:nvPicPr>
        <p:blipFill>
          <a:blip r:embed="rId2"/>
          <a:stretch/>
        </p:blipFill>
        <p:spPr>
          <a:xfrm>
            <a:off x="187200" y="144360"/>
            <a:ext cx="473040" cy="301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2" descr="C:\Users\AGROZD~1\AppData\Local\Temp\Rar$DI01.257\logo-bg-center-no-back.png"/>
          <p:cNvPicPr/>
          <p:nvPr/>
        </p:nvPicPr>
        <p:blipFill>
          <a:blip r:embed="rId3"/>
          <a:stretch/>
        </p:blipFill>
        <p:spPr>
          <a:xfrm>
            <a:off x="8447040" y="52560"/>
            <a:ext cx="674640" cy="552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611280" y="4653000"/>
            <a:ext cx="8064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групи критерии: 1) общи и 2) специфични, обособени в 2.1) к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ерии, които произтичат от законодателни изисквания и 2.2) критерии, които поставят по-високи изисквания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60240" y="1844640"/>
            <a:ext cx="36244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ъщност на </a:t>
            </a:r>
            <a:r>
              <a:rPr b="1" lang="ru-RU" sz="2400" spc="-1" strike="noStrike">
                <a:solidFill>
                  <a:srgbClr val="339933"/>
                </a:solidFill>
                <a:latin typeface="Times New Roman"/>
                <a:ea typeface="Calibri"/>
              </a:rPr>
              <a:t>Насоките за етапа на изпълне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държат примерни екологични критерии за оценка на проекти, съобразени със спецификите на всяка отделна програма, в т.ч. (ПО, ИП и дейности)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900000" y="333360"/>
            <a:ext cx="74376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А ФАЗА НА ПРОЦЕСА 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ГРИРАНЕ НА ПОС И ПИК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292720" y="3429000"/>
            <a:ext cx="3456000" cy="2765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431280"/>
            <a:ext cx="74376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А ФАЗА НА ПРОЦЕСА 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ГРИРАНЕ НА ПОС И ПИК (3)</a:t>
            </a:r>
            <a:br>
              <a:rPr sz="2800"/>
            </a:br>
            <a:r>
              <a:rPr b="1" lang="bg-BG" sz="2800" spc="-1" strike="noStrike">
                <a:solidFill>
                  <a:srgbClr val="339933"/>
                </a:solidFill>
                <a:latin typeface="Times New Roman"/>
                <a:ea typeface="Calibri"/>
              </a:rPr>
              <a:t>Предприети стъп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2"/>
          <a:stretch/>
        </p:blipFill>
        <p:spPr>
          <a:xfrm>
            <a:off x="187200" y="144360"/>
            <a:ext cx="473040" cy="30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2" descr="C:\Users\AGROZD~1\AppData\Local\Temp\Rar$DI01.257\logo-bg-center-no-back.png"/>
          <p:cNvPicPr/>
          <p:nvPr/>
        </p:nvPicPr>
        <p:blipFill>
          <a:blip r:embed="rId3"/>
          <a:stretch/>
        </p:blipFill>
        <p:spPr>
          <a:xfrm>
            <a:off x="8388360" y="85680"/>
            <a:ext cx="674640" cy="552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684360" y="1844640"/>
            <a:ext cx="7848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ване на Насоките, паралелно с процеса на програмиране на периода 2014-2020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но актуализиране на Насоките спрямо версиите на програмите, официално одобрени от Е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гласуване на Насоките с УО на програмите, съ-финансирани от ЕСИФ, за периода 2014-2020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обрение от Колегиум на МОСВ -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юни 2015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19280" y="4869000"/>
            <a:ext cx="769932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тации с общественостт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http://www.moew.government.bg</a:t>
            </a:r>
            <a:r>
              <a:rPr b="0" lang="bg-BG" sz="19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strategy.bg</a:t>
            </a:r>
            <a:r>
              <a:rPr b="0" lang="en-US" sz="19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густ–15 септемвр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60240" y="6032520"/>
            <a:ext cx="76280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ои внасяне на Насоките за одобрение от СКУСЕС и М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502920"/>
            <a:ext cx="7437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А ФАЗА НА ПРОЦЕСА 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ГРИРАНЕ НА ПОС И ПИК (4)</a:t>
            </a:r>
            <a:br>
              <a:rPr sz="2800"/>
            </a:br>
            <a:r>
              <a:rPr b="1" lang="bg-BG" sz="2800" spc="-1" strike="noStrike">
                <a:solidFill>
                  <a:srgbClr val="339933"/>
                </a:solidFill>
                <a:latin typeface="Times New Roman"/>
                <a:ea typeface="Calibri"/>
              </a:rPr>
              <a:t>Паралелн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473040" cy="301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2" descr="C:\Users\AGROZD~1\AppData\Local\Temp\Rar$DI01.257\logo-bg-center-no-back.png"/>
          <p:cNvPicPr/>
          <p:nvPr/>
        </p:nvPicPr>
        <p:blipFill>
          <a:blip r:embed="rId2"/>
          <a:stretch/>
        </p:blipFill>
        <p:spPr>
          <a:xfrm>
            <a:off x="8440560" y="109440"/>
            <a:ext cx="675000" cy="552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762120" y="2060640"/>
            <a:ext cx="76784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220680" indent="-1803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ановяване на координационен механизъм за проследяване прилагането на Насокит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0680" indent="-180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ие в РГ „Интегриране на околната среда в Кохезионната политика за периода 2014-2020 г.“ към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ENEA-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0680" indent="-18036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0680" indent="-18036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0680" indent="-18036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-180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-180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-180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http://previews.123rf.com/images/coramax/coramax1301/coramax130100025/17075842-3d-a-circular-puzzle-with-one-piece-in-red-Innovation-concept--Stock-Photo.jpg"/>
          <p:cNvPicPr/>
          <p:nvPr/>
        </p:nvPicPr>
        <p:blipFill>
          <a:blip r:embed="rId3"/>
          <a:stretch/>
        </p:blipFill>
        <p:spPr>
          <a:xfrm>
            <a:off x="2843280" y="3390840"/>
            <a:ext cx="33843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79480" y="765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http://ope.moew.government.bg/b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473040" cy="301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2" descr="C:\Users\AGROZD~1\AppData\Local\Temp\Rar$DI01.257\logo-bg-center-no-back.png"/>
          <p:cNvPicPr/>
          <p:nvPr/>
        </p:nvPicPr>
        <p:blipFill>
          <a:blip r:embed="rId2"/>
          <a:stretch/>
        </p:blipFill>
        <p:spPr>
          <a:xfrm>
            <a:off x="8388360" y="27000"/>
            <a:ext cx="674640" cy="552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0" y="1268280"/>
            <a:ext cx="91440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8" descr="https://t2.ftcdn.net/jpg/00/82/98/47/240_F_82984775_FF1LGTvjQQUkmvntVVOgmejLihpEgL0l.jpg"/>
          <p:cNvPicPr/>
          <p:nvPr/>
        </p:nvPicPr>
        <p:blipFill>
          <a:blip r:embed="rId1"/>
          <a:stretch/>
        </p:blipFill>
        <p:spPr>
          <a:xfrm>
            <a:off x="3078000" y="3159000"/>
            <a:ext cx="2862360" cy="286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437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ЛАГОДАР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ВНИМАНИЕ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2"/>
          <a:stretch/>
        </p:blipFill>
        <p:spPr>
          <a:xfrm>
            <a:off x="187200" y="144360"/>
            <a:ext cx="473040" cy="301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2" descr="C:\Users\AGROZD~1\AppData\Local\Temp\Rar$DI01.257\logo-bg-center-no-back.png"/>
          <p:cNvPicPr/>
          <p:nvPr/>
        </p:nvPicPr>
        <p:blipFill>
          <a:blip r:embed="rId3"/>
          <a:stretch/>
        </p:blipFill>
        <p:spPr>
          <a:xfrm>
            <a:off x="8469360" y="46080"/>
            <a:ext cx="674640" cy="552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577800" y="5672160"/>
            <a:ext cx="8136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gramming@moew.government.b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ttp://ope.moew.government.bg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Grozdanova</cp:lastModifiedBy>
  <dcterms:modified xsi:type="dcterms:W3CDTF">2015-09-12T06:43:58Z</dcterms:modified>
  <cp:revision>780</cp:revision>
  <dc:subject/>
  <dc:title>Diapositiva 1</dc:title>
</cp:coreProperties>
</file>